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type.wav" ContentType="audio/x-wav"/>
  <Override PartName="/ppt/media/chimes.wav" ContentType="audio/x-wav"/>
  <Override PartName="/ppt/media/image8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7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8CE6-0C3C-41FD-9E00-1A5762948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2B85-FE8F-4351-8815-F6D84E9D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2C10-3D18-494A-8B5C-75D8453F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DACA-7E5A-4B1F-9BD7-462AF352B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32B1-B3B9-43C6-ADA6-5273E5C0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893B-C88A-4306-9C89-ADEC36BC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A52D-4848-4E5E-9915-C1C3C679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2463-8531-49CA-A62B-694E2F88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E9E9-3B73-4B5F-BCE1-B2FB2702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9975-02FC-462F-B2BE-9686DF69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E4AE-0D88-4E84-B7EE-90F6D361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70C8-6AC4-44FE-B1F0-DE8F9D54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5462-4C20-4F6B-97F5-63A30725425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7365960" cy="20829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9640" y="3141720"/>
            <a:ext cx="3990960" cy="619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012000" y="3284640"/>
            <a:ext cx="1895400" cy="409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77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80" y="3396600"/>
            <a:ext cx="239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11280" y="3933720"/>
            <a:ext cx="7162560" cy="1333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11280" y="5661000"/>
            <a:ext cx="727704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ochu opakován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piš slovo: Tří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likost písma nyní změní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chimes.wav"/>
      </p:stSnd>
    </p:sndAc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vou částí myši klikni před písmeno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vou část myši stiskni dolů a táhni až za písmeno a. Pak stisknutou myš uvol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lovo Třída se začerni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chimes.wav"/>
      </p:stSnd>
    </p:sndAc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likni na roletu s tímto znakem: 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leta se rozvine a pak klikni na číslo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k klikni 1x na bílou ploc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chimes.wav"/>
      </p:stSnd>
    </p:sndAc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301680"/>
            <a:ext cx="8207280" cy="1255680"/>
          </a:xfrm>
          <a:prstGeom prst="rect">
            <a:avLst/>
          </a:prstGeom>
          <a:noFill/>
          <a:ln w="730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OPAKOVÁN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piš větu: Počítač je můj kamará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měn větu na velikost písma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chimes.wav"/>
      </p:stSnd>
    </p:sndAc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5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769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769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" dur="769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5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6" dur="769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7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632400" cy="736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51280" y="189000"/>
            <a:ext cx="4228920" cy="787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142704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1714680"/>
            <a:ext cx="802800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imes New Roman"/>
              </a:rPr>
              <a:t>l</a:t>
            </a:r>
            <a:r>
              <a:rPr b="1" lang="cs-CZ" sz="16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808080"/>
                </a:solidFill>
                <a:latin typeface="Times New Roman"/>
              </a:rPr>
              <a:t>název výukového materiálu: </a:t>
            </a: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Člověk a svět práce - Výpočetní techn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imes New Roman"/>
              </a:rPr>
              <a:t>l</a:t>
            </a:r>
            <a:r>
              <a:rPr b="1" lang="cs-CZ" sz="16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808080"/>
                </a:solidFill>
                <a:latin typeface="Times New Roman"/>
              </a:rPr>
              <a:t>jméno autora:  </a:t>
            </a: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Mgr. Zavadil Josef</a:t>
            </a:r>
            <a:r>
              <a:rPr b="0" lang="cs-CZ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imes New Roman"/>
              </a:rPr>
              <a:t>l</a:t>
            </a:r>
            <a:r>
              <a:rPr b="1" lang="cs-CZ" sz="16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808080"/>
                </a:solidFill>
                <a:latin typeface="Times New Roman"/>
              </a:rPr>
              <a:t>škola: </a:t>
            </a: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Základní škola Lipník nad Bečvou, Osecká 3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imes New Roman"/>
              </a:rPr>
              <a:t>l</a:t>
            </a:r>
            <a:r>
              <a:rPr b="1" lang="cs-CZ" sz="16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808080"/>
                </a:solidFill>
                <a:latin typeface="Times New Roman"/>
              </a:rPr>
              <a:t>cílová skupina (ročník, tematický celek):  </a:t>
            </a: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6. třída,</a:t>
            </a:r>
            <a:r>
              <a:rPr b="1" lang="cs-CZ" sz="1600" spc="-1" strike="noStrike">
                <a:solidFill>
                  <a:srgbClr val="808080"/>
                </a:solidFill>
                <a:latin typeface="Times New Roman"/>
              </a:rPr>
              <a:t> MS</a:t>
            </a: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imes New Roman"/>
              </a:rPr>
              <a:t>                                          </a:t>
            </a: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- základní informace, cesta a  přík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l</a:t>
            </a: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forma vyučovací hodiny, pomůcky: Activstudio, názorné pomůcky dle možnos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en-US" sz="1800" spc="-1" strike="noStrike">
                <a:solidFill>
                  <a:srgbClr val="808080"/>
                </a:solidFill>
                <a:latin typeface="Garamond"/>
              </a:rPr>
              <a:t>a   vybavení učeb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popis prezentace a jejího využití:  Žáci si osvojí základní názvosloví a příkazy pro Wor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                                                            </a:t>
            </a: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v teorii a  praxi</a:t>
            </a: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765000"/>
            <a:ext cx="768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214560"/>
            <a:ext cx="71294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SEZN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imes New Roman"/>
              </a:rPr>
              <a:t>a) </a:t>
            </a: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prameny a literatura</a:t>
            </a:r>
            <a:r>
              <a:rPr b="0" lang="cs-CZ" sz="1600" spc="-1" strike="noStrike">
                <a:solidFill>
                  <a:srgbClr val="808080"/>
                </a:solidFill>
                <a:latin typeface="Times New Roman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80808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b) odkazy a externí soubory</a:t>
            </a:r>
            <a:r>
              <a:rPr b="1" lang="cs-CZ" sz="1600" spc="-1" strike="noStrike">
                <a:solidFill>
                  <a:srgbClr val="80808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Mezipředmětové vzta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Materiály jsou určeny pro bezplatné používání pro potřeby výuky a vzdělávání na všech typech škol a školských zařízeních. Jakékoli další využití podléhá autorskému zákon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4724280"/>
            <a:ext cx="2006640" cy="2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07280" cy="1800000"/>
          </a:xfrm>
          <a:prstGeom prst="rect">
            <a:avLst/>
          </a:prstGeom>
          <a:noFill/>
          <a:ln w="730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TEXTOVÝ  EDITOR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WO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2920" y="2349000"/>
            <a:ext cx="6840720" cy="35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975"/>
                </a:solidFill>
                <a:latin typeface="Times New Roman"/>
              </a:rPr>
              <a:t>CO SE NAUČÍ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 Základy psaní z kláves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 Sou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 Velikost pís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7"/>
          <p:cNvSpPr txBox="1"/>
          <p:nvPr/>
        </p:nvSpPr>
        <p:spPr>
          <a:xfrm rot="1684200">
            <a:off x="7093080" y="4941360"/>
            <a:ext cx="1542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174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174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9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9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9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9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30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OUB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55080" cy="25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vou částí myši 1x klikni na Sou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bor se otevře s nabídk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to Soubor budeš často použív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2268360" y="3564000"/>
            <a:ext cx="4392720" cy="329400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chimes.wav"/>
      </p:stSnd>
    </p:sndAc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69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69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69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69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30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VELIKOST</a:t>
            </a:r>
            <a:r>
              <a:rPr b="1" lang="en-US" sz="6000" spc="-1" strike="noStrike">
                <a:solidFill>
                  <a:srgbClr val="33cc33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PÍSM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431640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likost písma je automaticky č.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likost písma můžeš mě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k na 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likni na roletu s tímto znakem: 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leta se rozvine s volbou různých velikostí pí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4427640" y="2492280"/>
            <a:ext cx="4495680" cy="337212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chimes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69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69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69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69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0T19:34:46Z</dcterms:created>
  <dc:creator>Josef Zavadil</dc:creator>
  <dc:description/>
  <dc:language>en-US</dc:language>
  <cp:lastModifiedBy>Mgr. Jarmila Slezáčková</cp:lastModifiedBy>
  <dcterms:modified xsi:type="dcterms:W3CDTF">2011-06-21T10:53:16Z</dcterms:modified>
  <cp:revision>3</cp:revision>
  <dc:subject/>
  <dc:title>Snímek 1</dc:title>
</cp:coreProperties>
</file>