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type.wav" ContentType="audio/x-wav"/>
  <Override PartName="/ppt/media/image17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C44-E5D1-47DD-A9C9-8578202A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7AD-A851-4436-A58D-76A84000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2AC-8A15-403E-8953-8D1E52F9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F48-E280-44F1-BD50-C4B62AF9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21B-DDE2-4F57-93BB-4E123A3F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3DE-5EB6-4143-AFCF-12E85F17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7E9-1752-429B-99EB-050E4998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0E4-EED7-4D62-911A-4E498D4A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BC9-B28E-4F12-83DF-1B2BEAD8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F44-E86C-4105-9063-CA0DB3BB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3AA-196C-4E8F-BCEB-DD4D5632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FF6-D97E-41BB-9713-0855BF56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7FD6-8E06-4C82-A273-B4C66E3AB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7365960" cy="2082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3990960" cy="619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12000" y="3284640"/>
            <a:ext cx="1895400" cy="40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77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80" y="3396600"/>
            <a:ext cx="23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716256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1280" y="5661000"/>
            <a:ext cx="72770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lovo spolužák nyní označíme. J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ou částí myši klikni před písmeno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ou část myši stiskni dolů a táhni až za písmeno k. Pak stisknutou myš uvol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lovo spolužák se začern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ikni na roletu s tímto znakem: 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eta se rozvine, pak klikni na jiný druh pí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ikni 1x na bílou plo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301680"/>
            <a:ext cx="8207280" cy="1255680"/>
          </a:xfrm>
          <a:prstGeom prst="rect">
            <a:avLst/>
          </a:prstGeom>
          <a:noFill/>
          <a:ln w="73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BARVA </a:t>
            </a:r>
            <a:r>
              <a:rPr b="1" lang="en-US" sz="6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PÍS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ikni na 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eta se rozvine s nabídkou bar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ybereš si barvu a na ní klikne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xt se změní podle vybrané barv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69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69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69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69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301680"/>
            <a:ext cx="8207280" cy="1255680"/>
          </a:xfrm>
          <a:prstGeom prst="rect">
            <a:avLst/>
          </a:prstGeom>
          <a:noFill/>
          <a:ln w="73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BARVA</a:t>
            </a:r>
            <a:r>
              <a:rPr b="1" lang="en-US" sz="60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PÍS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piš nějaké slovo, třeba automob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znač toto slovo. Jak se to děl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k klikni na vybranou barv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69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69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69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69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632400" cy="736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51280" y="189000"/>
            <a:ext cx="4228920" cy="7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14270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1592640"/>
            <a:ext cx="802800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l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název výukového materiálu: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Člověk a svět práce - Výpočetní tech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l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jméno autora: 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Mgr. Zavadil Josef</a:t>
            </a: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l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škola: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Základní škola Lipník nad Bečvou, Osecká 3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l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cílová skupina (ročník, tematický celek): 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6. třída,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 MS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                                         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- základní informace, cesta a  přík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forma vyučovací hodiny, pomůcky: Activstudio, názorné pomůcky dle mož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1800" spc="-1" strike="noStrike">
                <a:solidFill>
                  <a:srgbClr val="808080"/>
                </a:solidFill>
                <a:latin typeface="Garamond"/>
              </a:rPr>
              <a:t>a   vybavení učeb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popis prezentace a jejího využití:  Žáci si osvojí základní názvosloví a příkazy pro WordPa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                                                           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v teorii a  praxi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301680"/>
            <a:ext cx="8207280" cy="1255680"/>
          </a:xfrm>
          <a:prstGeom prst="rect">
            <a:avLst/>
          </a:prstGeom>
          <a:noFill/>
          <a:ln w="73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OPAKOVÁ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apiš větu: Počítač je můj kamará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měn větu na velikost písma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arva věty bude zel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ísmo bude Comic Sans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69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69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69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69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3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DALŠÍ</a:t>
            </a:r>
            <a:r>
              <a:rPr b="1" lang="en-US" sz="60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FUNK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xt může bý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čný –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dtržený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kloněný (kurzíva)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0" y="3500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69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69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69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69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50920" y="914760"/>
            <a:ext cx="87138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Tabule   </a:t>
            </a:r>
            <a:r>
              <a:rPr b="0" lang="en-US" sz="6600" spc="-1" strike="noStrike">
                <a:solidFill>
                  <a:srgbClr val="ff0000"/>
                </a:solidFill>
                <a:latin typeface="Flat Brush"/>
                <a:ea typeface="Times New Roman"/>
              </a:rPr>
              <a:t>AHOJ  </a:t>
            </a:r>
            <a:r>
              <a:rPr b="0" lang="en-US" sz="6600" spc="-1" strike="noStrike">
                <a:solidFill>
                  <a:srgbClr val="00ff00"/>
                </a:solidFill>
                <a:latin typeface="Excalibur SF"/>
                <a:ea typeface="Times New Roman"/>
              </a:rPr>
              <a:t>Praha</a:t>
            </a:r>
            <a:r>
              <a:rPr b="0" lang="en-US" sz="6600" spc="-1" strike="noStrike">
                <a:solidFill>
                  <a:srgbClr val="ff0000"/>
                </a:solidFill>
                <a:latin typeface="Flat Brush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T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  <a:ea typeface="Times New Roman"/>
              </a:rPr>
              <a:t>a</a:t>
            </a:r>
            <a:r>
              <a:rPr b="0" lang="en-US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b</a:t>
            </a:r>
            <a:r>
              <a:rPr b="0" lang="en-US" sz="6600" spc="-1" strike="noStrike">
                <a:solidFill>
                  <a:srgbClr val="0000ff"/>
                </a:solidFill>
                <a:latin typeface="Arial"/>
                <a:ea typeface="Times New Roman"/>
              </a:rPr>
              <a:t>u</a:t>
            </a:r>
            <a:r>
              <a:rPr b="0" lang="en-US" sz="6600" spc="-1" strike="noStrike">
                <a:solidFill>
                  <a:srgbClr val="993366"/>
                </a:solidFill>
                <a:latin typeface="Arial"/>
                <a:ea typeface="Times New Roman"/>
              </a:rPr>
              <a:t>l</a:t>
            </a:r>
            <a:r>
              <a:rPr b="0" lang="en-US" sz="6600" spc="-1" strike="noStrike">
                <a:solidFill>
                  <a:srgbClr val="ff6600"/>
                </a:solidFill>
                <a:latin typeface="Arial"/>
                <a:ea typeface="Times New Roman"/>
              </a:rPr>
              <a:t>e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French Script MT"/>
                <a:ea typeface="Times New Roman"/>
              </a:rPr>
              <a:t>Sešit    </a:t>
            </a:r>
            <a:r>
              <a:rPr b="0" lang="en-US" sz="8000" spc="-1" strike="noStrike">
                <a:solidFill>
                  <a:srgbClr val="000000"/>
                </a:solidFill>
                <a:latin typeface="Dolphin"/>
                <a:ea typeface="Times New Roman"/>
              </a:rPr>
              <a:t>Ja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Excalibur SF"/>
                <a:ea typeface="Times New Roman"/>
              </a:rPr>
              <a:t>Tabule </a:t>
            </a:r>
            <a:r>
              <a:rPr b="0" lang="en-US" sz="80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A u t o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wf2_Monaco"/>
                <a:ea typeface="Times New Roman"/>
              </a:rPr>
              <a:t>Učite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471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79280" y="260280"/>
            <a:ext cx="8964720" cy="1143000"/>
          </a:xfrm>
          <a:prstGeom prst="rect">
            <a:avLst/>
          </a:prstGeom>
          <a:noFill/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UKÁZKY</a:t>
            </a:r>
            <a:r>
              <a:rPr b="0" lang="en-US" sz="54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ÚPRAVY</a:t>
            </a:r>
            <a:r>
              <a:rPr b="0" lang="en-US" sz="54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TEX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69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69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69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69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765000"/>
            <a:ext cx="76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14560"/>
            <a:ext cx="7129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SEZN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a)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prameny a literatura</a:t>
            </a: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b) odkazy a externí soubory</a:t>
            </a:r>
            <a:r>
              <a:rPr b="1" lang="cs-CZ" sz="16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Mezipředmětové vzta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Materiály jsou určeny pro bezplatné používání pro potřeby výuky a vzdělávání na všech typech škol a školských zařízeních. Jakékoli další využití podléhá autorskému záko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200664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07280" cy="1800000"/>
          </a:xfrm>
          <a:prstGeom prst="rect">
            <a:avLst/>
          </a:prstGeom>
          <a:noFill/>
          <a:ln w="73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EXTOVÝ  EDITOR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O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684072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975"/>
                </a:solidFill>
                <a:latin typeface="Times New Roman"/>
              </a:rPr>
              <a:t>CO SE NAUČÍ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 Druh pí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  Barva pí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7"/>
          <p:cNvSpPr txBox="1"/>
          <p:nvPr/>
        </p:nvSpPr>
        <p:spPr>
          <a:xfrm rot="1684200">
            <a:off x="7093080" y="4941360"/>
            <a:ext cx="1542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17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17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9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9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9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9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3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DRUH</a:t>
            </a:r>
            <a:r>
              <a:rPr b="1" lang="en-US" sz="60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PÍS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uh písma můžeš mě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ikni na roletu s tímto znakem: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eta se rozvine s nabídkou různých druhů pí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ný druh písma si vybereš kliknutím na vybrané pí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9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9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9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9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301680"/>
            <a:ext cx="8207280" cy="1255680"/>
          </a:xfrm>
          <a:prstGeom prst="rect">
            <a:avLst/>
          </a:prstGeom>
          <a:noFill/>
          <a:ln w="73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DRUH</a:t>
            </a:r>
            <a:r>
              <a:rPr b="1" lang="en-US" sz="60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PÍS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piš slovo spoluž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h písma nyní změní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69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69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69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69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20:22:11Z</dcterms:created>
  <dc:creator>Josef Zavadil</dc:creator>
  <dc:description/>
  <dc:language>en-US</dc:language>
  <cp:lastModifiedBy>Mgr. Jarmila Slezáčková</cp:lastModifiedBy>
  <dcterms:modified xsi:type="dcterms:W3CDTF">2011-06-21T10:52:24Z</dcterms:modified>
  <cp:revision>4</cp:revision>
  <dc:subject/>
  <dc:title>Snímek 1</dc:title>
</cp:coreProperties>
</file>